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DE0B-D46E-4BA0-903D-F201ED9D1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C3D8-DFF0-4256-8C92-88F16896092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BAD7-1694-4465-9C07-67B2053CF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04E2-0551-416F-9F9B-336C0F74A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CDBF-AD02-47D8-9EFE-DB000F81D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0B5F-4C83-49F0-9F91-FFE7DCE42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2A49-C92D-4ADA-A113-6A144DA07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6F22-C093-4F8F-9AEF-BD8930307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07FA-F9AC-4CD3-84A6-3A209D47E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F6B7-9B63-43EF-BE08-9E5FF1595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C401-567D-45BE-BE49-3EC106069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5376-41BA-48EB-8EC2-2A332DDD0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8D2D-CFD3-4ABF-A656-E6A3ECF6F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CB13-7353-4C59-BDCC-6DEFB2662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1204-E1FC-4695-ABA7-F592945D145E}" type="slidenum"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24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UPRAVLJANJE PROJEKTIMA</a:t>
            </a:r>
            <a:endParaRPr b="0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227640" y="5734080"/>
            <a:ext cx="2737080" cy="3380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februar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86240" y="4611600"/>
            <a:ext cx="323712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B075-47AD-4F64-B0C3-EDF56A31EC04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tručnjak koji upravlja projektima naziva se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roject Manager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d njega se očekuje da pored poznavanja tehnologije izvođenja građevinskih radova, razvije i primenjuje sopstvenu tehnologiju upravljanja gradilišta.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A14C-E815-4289-87ED-2FF4EBF35E0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Zaključak</a:t>
            </a: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bitno jer 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troškove građenj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Smanjuje period iz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kvalitet gradnj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ovećava prof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toga je upravljanje projektima jedan bitan deo u oblasti građevinarstva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42DE-EC5B-4B11-B7FD-F99B246E75D7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egled Izlaganja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2276280"/>
            <a:ext cx="764352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Projekat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blemi u realizaciji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incip upravljan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t Manadžer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B387-9A63-4F03-A207-27B52E0F7FC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184428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Šta je Projekat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rojekat koji za cilj ima izgradnju i opremanje građevinskog objekta naziva s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građevinski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ili češće </a:t>
            </a:r>
            <a:r>
              <a:rPr b="1" lang="sr-Latn-CS" sz="2800" spc="-1" strike="noStrike" u="sng">
                <a:solidFill>
                  <a:srgbClr val="292929"/>
                </a:solidFill>
                <a:uFillTx/>
                <a:latin typeface="Arial"/>
              </a:rPr>
              <a:t>investicioni projekat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avisno od veličine objekta, projekti mogu biti manje ili više obimni ali bez obzira na to projekti su kompleksni tehničko-tehnološki, organizacioni, finanskijski i pravni procesi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C429-5D36-4ADE-B8A8-4DC4D49762D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773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oblemi u realizaciji projek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349360"/>
            <a:ext cx="764388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ski uslovi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Inflacije, cene materijala i potrebština,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ratki rokovi građenja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suglasice oko ugovora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87280" y="4581360"/>
            <a:ext cx="756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Zbog ovih a i mnogih drugih problema postoji  potreba za sistemom upravljanja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E6BB-0319-43D3-A299-D028659B1EF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Upravljanje projektom je slo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žen i odgovoran posao organizacije građevinskog projekt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moću sistema upravljanja, projekat se realizuje na ekonomičan, kvalitetan, brz i efikasan način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om je bitan faktor svakog građenja koji na “pametan” način olakšava proces realizacij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C062-28D1-4DD7-B09A-0857F6C7065B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270828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projekat mora da ima upravaljački podsistem koji definiše: plan, ciljeve, politiku, strategiju, organizaciju, donosi odluke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Planom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se definiše skup određenih aktivnosti, njihovih međuzavisnosti, trajanja istih i potrebnih resursa i sredstava za njihovo izvršenje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sr-Latn-CS" sz="2800" spc="-1" strike="noStrike" u="sng">
                <a:solidFill>
                  <a:srgbClr val="4d4d4d"/>
                </a:solidFill>
                <a:uFillTx/>
                <a:latin typeface="Arial"/>
              </a:rPr>
              <a:t>Cilj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definiše stanje posistema koje se želi postići (realizacija projekta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058F-5E67-40BE-AF45-6E7BD7D3B70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87280" y="2421000"/>
            <a:ext cx="7705800" cy="43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Svaki upravljački podsistem mora da upravlja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imom projekt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remenom (“Vreme je novac”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oškovim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valitet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abav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Rizikom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64F6-22C8-4738-A734-A1BD5CE3694F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Upravljanje projektima je veoma složen i komplikovan posao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Treba imati u vidu da obaveze svakog pojedinca koji učestvuje u projektu moraju biti jasno definisan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pr. gradilište sa par stotina radnika i velikim obimom posl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1773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Upravljanje Projekto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281A-135B-46AD-982C-6D6C642CE5A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99"/>
                </a:solidFill>
                <a:latin typeface="Arial"/>
              </a:rPr>
              <a:t>Princip Upravljanj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84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d4d4d"/>
                </a:solidFill>
                <a:latin typeface="Arial"/>
              </a:rPr>
              <a:t>U realizaciji svakog projekta dolazi do komplikacija koje utiču na tok realizacije. Zato svaki projekat mora da ima sistem kontrole koji se sastoji od: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ocene (planiranja) onog što će se dogoditi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Uvida u stvarno stanje radova (monitoring)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oređenje planiranog i ostvarenog ,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d4d4d"/>
                </a:solidFill>
                <a:latin typeface="Arial"/>
              </a:rPr>
              <a:t>Preduzimanje akcije za minimizaciju odstupanja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</dc:creator>
  <dc:description/>
  <dc:language>en-US</dc:language>
  <cp:lastModifiedBy>HOME</cp:lastModifiedBy>
  <dcterms:modified xsi:type="dcterms:W3CDTF">2008-02-02T11:02:31Z</dcterms:modified>
  <cp:revision>15</cp:revision>
  <dc:subject>upravaljanje projektima</dc:subject>
  <dc:title>UPRAVLJANJE PROJEKT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